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1DA05-19CB-41B5-AE4D-770C440B8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36BD4-DD31-460C-921C-D1DCE38E6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66375-EEC8-49CE-A1C4-7D377C2CB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2B799-220C-44E5-A630-D6F27993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70A2-9B09-4C5C-8FF9-D27194805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2E45-4B77-48C3-9A64-5FD8CF2A4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467E-F1FB-4D7E-930E-0A3949BAF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BA1A8-9BDC-4E46-B600-B26ED011A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CCBB4-FDD1-4EB9-93BA-C4B99870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5AF2-68CA-4CBD-9F66-2C987358C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3DE0-B150-459B-B1D6-ADD2702F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5F7E-AA3D-491D-B236-27CD3063D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F0D7-9A15-4492-A865-1EC6DEA76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61111E-006 -2.36994E-006 L -0.00938 -0.06335 C -0.01511 -0.05225 -0.02292 -0.05294 -0.0316 -0.04855 C -0.04063 -0.04416 -0.04358 -0.04185 -0.05382 -0.04 C -0.08924 -0.04231 -0.08542 -0.03075 -0.09045 -0.06543 C -0.08993 -0.07676 -0.09028 -0.08809 -0.08889 -0.09919 C -0.08855 -0.10196 -0.0882 -0.09341 -0.08716 -0.09086 C -0.0842 -0.083 -0.07743 -0.07607 -0.07292 -0.06959 C -0.0566 -0.07029 -0.029 -0.09248 -0.02379 -0.07167 C -0.01875 -0.05156 -0.05556 -0.06728 -0.07136 -0.06335 C -0.08108 -0.06104 -0.1 -0.05271 -0.1 -0.05271 C -0.10261 -0.05063 -0.10521 -0.04855 -0.10782 -0.04647 C -0.10955 -0.04508 -0.11424 -0.0437 -0.11268 -0.04208 C -0.10973 -0.03907 -0.10521 -0.04046 -0.10157 -0.04 C -0.09462 -0.03907 -0.08785 -0.03815 -0.08091 -0.03792 C -0.05973 -0.03676 -0.03855 -0.03653 -0.01736 -0.03583 C -0.02466 -0.03422 -0.03091 -0.0319 -0.03802 -0.02959 C -0.01736 -0.02219 -0.02639 -0.02451 0.01597 -0.02959 C 0.01961 -0.03005 0.0085 -0.03098 0.00486 -0.03167 C -0.01111 -0.03491 0.00052 -0.03375 -0.02049 -0.03375 L 0.05086 -0.06543 L 0.0684 -0.10566 L 0.56996 -0.48601 L 0.1 -0.03583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a3</cp:lastModifiedBy>
  <dcterms:modified xsi:type="dcterms:W3CDTF">2012-06-19T10:58:1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